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65F-3B2C-4D54-96D7-00EF06B7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4CB-27C0-466C-A369-5512F3A7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4A2-E436-491D-B1EB-A245228D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442-8CBB-4E45-94E0-FC8DF4F5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263D2-4EAA-49FB-9122-8B956DA5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A7443-3C23-478D-8E42-EFAED0F6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28750-D623-47DF-B065-EA7C6E2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C143B-5DE2-41CC-A89A-F872756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DC666-E3D3-4C12-9DA6-12FFA77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4AD3-495B-4C2D-B38A-318B0726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F1B41-15DF-4665-A218-7CC1E928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60C-7556-4BC9-8324-628530DF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C8CD-2380-4F97-9A28-B32463E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DDDD9-4F92-4ADF-A980-AF132BA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23A9-7C41-4CA2-A7D0-E126E5EE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3183-D36B-42B3-8519-EFF93C8E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A652-38BF-4CB6-A2FD-825E6BF0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679-4DD2-401D-8D9C-1FC4D1A5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78E-5044-470B-996B-089F8A7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F2F-9FA8-4272-9FD6-4DBCCFB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589-E606-47C6-90AF-FA6BD7AC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315-7C4D-44B3-81BD-CCF55D0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57D-4025-4E56-85CC-D0E0E6B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ED3-3383-45CC-BB5D-05D7D68C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1D6B-1623-4E39-9C47-2D72F3B105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2D33-6CD8-40FE-AFEF-E320F3D3F8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s. 18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5362560" cy="6898320"/>
            <a:chOff x="0" y="0"/>
            <a:chExt cx="5362560" cy="6898320"/>
          </a:xfrm>
        </p:grpSpPr>
        <p:pic>
          <p:nvPicPr>
            <p:cNvPr id="14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8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846240" y="656604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480" y="663408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3657240" y="3200400"/>
            <a:ext cx="251460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877000" y="2438280"/>
            <a:ext cx="3267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80880"/>
            <a:ext cx="3429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– 1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– 1:10-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2:1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4038480"/>
            <a:ext cx="3276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– 3:1-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emorial Monuments – 4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-4:10-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– 4:19-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149400"/>
            <a:ext cx="4800600" cy="6706440"/>
            <a:chOff x="0" y="149400"/>
            <a:chExt cx="4800600" cy="6706440"/>
          </a:xfrm>
        </p:grpSpPr>
        <p:pic>
          <p:nvPicPr>
            <p:cNvPr id="15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149400"/>
              <a:ext cx="480060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443040" y="628020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0520" y="634356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724280" y="457200"/>
            <a:ext cx="400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24080" y="1143000"/>
            <a:ext cx="4648320" cy="2895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52480" y="3124080"/>
            <a:ext cx="99540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81280"/>
            <a:ext cx="83808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12408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lected Circumcision – 5:1-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149400"/>
            <a:ext cx="4648320" cy="6706440"/>
            <a:chOff x="228600" y="149400"/>
            <a:chExt cx="4648320" cy="6706440"/>
          </a:xfrm>
        </p:grpSpPr>
        <p:pic>
          <p:nvPicPr>
            <p:cNvPr id="16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228600" y="149400"/>
              <a:ext cx="4648320" cy="63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562560" y="6280200"/>
              <a:ext cx="1311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880" y="6343560"/>
              <a:ext cx="2072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581280"/>
            <a:ext cx="6858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981080"/>
            <a:ext cx="3733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:13 – 6: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429000"/>
            <a:ext cx="2590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Terry W. Benton</cp:lastModifiedBy>
  <dcterms:modified xsi:type="dcterms:W3CDTF">2005-01-08T00:06:38Z</dcterms:modified>
  <cp:revision>4</cp:revision>
  <dc:subject/>
  <dc:title>Joshua: The New Leader</dc:title>
</cp:coreProperties>
</file>